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656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AD2-E8DA-42CF-838B-6E339E79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9006-7593-407E-985A-A3125E2B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388-440F-4097-9405-3676AC03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E21-2A19-4343-965C-3ED43DDD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51DD-7D4D-47CA-8333-B4FF10CD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94D5-D652-410F-90D1-CFD1052A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ACCF-BEA5-49F9-8DB0-4327AD1D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8898-E365-445A-A391-14B11E58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ED59-8A37-4FBD-96FF-72F4ACED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1275-B09E-4BDA-8E1E-98DB4293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A181-C494-4E92-B871-B6922932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1523-0490-4F6E-AA6B-B110AE8A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6D41-3278-4061-A8BC-F3EEBBB5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1F93-8ED6-413F-975E-B00B4BBF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ACC3-3D01-43C6-89FC-1014807C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9768-E1A9-47EF-B00D-407CD903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6D86-ADA5-4A39-B586-3E805810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6DBE-432C-4A1A-BFAE-946E12C7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7DBE-EB61-42BC-A0B8-68601A84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2B10-9EB8-4438-BE4F-BD0DB416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65C-2C24-466D-9FDE-041B860F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97C0-36BF-4CD5-B55C-0E0F2BB3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CC2-0137-4CD8-84DC-B763C232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B3E-067F-4DDF-9653-F917945F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3A0B-C384-4BA2-9F42-527CA0E9E882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628640"/>
            <a:ext cx="7010280" cy="71640"/>
          </a:xfrm>
          <a:prstGeom prst="roundRect">
            <a:avLst>
              <a:gd name="adj" fmla="val 0"/>
            </a:avLst>
          </a:prstGeom>
          <a:solidFill>
            <a:srgbClr val="86d1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4154-9C35-4925-B8C2-F5B28CDBBB47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20" y="-114480"/>
            <a:ext cx="914400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95640" y="1376640"/>
            <a:ext cx="7199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Elektronik Bankacılıkta</a:t>
            </a:r>
            <a:br>
              <a:rPr sz="4800"/>
            </a:b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Uluslararası Yaklaşımla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hmet Türkay VAR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ilgi Yönetimi Dairesi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/ BD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ire Başkan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9408-D060-4AF3-8EE5-4E0CF9C50E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mli Konu Başlıkları / </a:t>
            </a: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Ris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46400" y="1628640"/>
            <a:ext cx="520524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kar Edem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(Gizlil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ahremi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Veri Bütünlüğ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2AEC-4EAF-43A9-A976-445C3080AA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 Çıkan Korunma Teknik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403280" y="1484280"/>
            <a:ext cx="691200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ok Faktörlü 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ldiği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Sahip Olduğu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yolojik Tekil Bir Özelliğ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im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letilen Verinin Şifrelen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27C-B23D-44EC-8BBB-6A881491D5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Güçlü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10920" y="1987200"/>
            <a:ext cx="8064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zı Tekniklerin Kullanım Alt Yapısının Oluşmamış Olması (E-İmz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knolojinin Gelişen ve Değişen Yapı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enel Erişime Açık Or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llanıcı Bilinç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23D6-6ABD-4E95-A72C-8AA83B9EEE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BDDK Çalışmalar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71280" y="2211120"/>
            <a:ext cx="698508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nkalarda Bilgi Sistemlerinin Yönetiminde Esas Alınacak İlkelere İlişkin Tebli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ternet Bankacılığ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DFCA-0F39-4794-A8B9-E70EE89ED6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12640" y="333360"/>
            <a:ext cx="77115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İLGİNİZ İÇİN TEŞEKÜ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ORU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F77-82D5-4613-A55A-9B8C3C5A52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13000" y="32544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Çatı Kurum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 for International Settlements (BIS) – Electronic Banking Group of Basel Committee on Banking Sup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Risk Yönetimi İlkeleri” – Temmuz 2003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Risk Management Principles for Electronic Bank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uropean Committee for Banking Standards (ECB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Güvenlik Kılavuzları: Basel Risk Yönetimi İlkeleri Uygulamaları” – Ağustos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Security Guidelines for e-Banking: Application of Basel Risk Management Princip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BCE-84C0-4489-8426-E86292A1E3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)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6760" y="2176560"/>
            <a:ext cx="693432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na Başlıkl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Üst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Kontrol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sal Risk ve İtibar Riski Yön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5720" y="6580080"/>
            <a:ext cx="78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* BIS’in Temmuz 2003 tarihli “Risk Management Principles for Electronic Banking” dokümanınd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31D-43C3-4F1D-AD0A-2FAF976A6A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5365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Faaliyetleri Üzerinde Etkin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apsamlı Güvenlik Kontrol Süreçlerinin Tesis Edil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estek Hizmeti Alımına İlişkin Faaliyetlerin Gözetimi, Hizmet Kalitesi ve Diğer Unsurların Taki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47640" y="178596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Üst Yönetim Göz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C2C-2832-4A95-9E6B-95DAA8A756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235584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İnkar Edememe ve Güvenilir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Görevler Ayrılığı İçin Uygun Önlem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Sistemleri, Veritabanları ve Uygulamaları İçin Uygun Yetk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, Kayıtları ve Bilgileri İçin Veri Bütünlüğ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Denetim İzlerinin (log) Tutu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ritik Banka Bilgileri İçin Gizli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5640" y="162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Güvenlik Kontroller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5016-9DF5-4D59-BD87-F6B94090CA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V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6384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Hizmetleri İle İlgili Yeterli Açık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rinin Mahremiye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Sistemlerinin ve Servislerinin Sürekliliğini Sağlamak Üzere Kapasite, İş Sürekliliği ve İhtimal Planlam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Olay Cevap Plan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692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Yasal Risk ve İtibar Riski Yön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494-8E17-4F78-B15E-D5B725EB4B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 Alınma Biçim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üzenl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Mevcut Düzenlemeler Kapsamında Değer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onuya İlişkin Yeni Düzenlemelerin Hazırlan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ılavu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55640" y="522936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ertifikasy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(WebTrust, BBBOnline, TrustUK,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29A-0592-4CE9-8D94-A672A81910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8360" y="1308240"/>
            <a:ext cx="8207280" cy="516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D7E1-1868-4DE5-BB6D-9A17F3DFC4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1963800"/>
            <a:ext cx="8244000" cy="4489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8360" y="1225440"/>
            <a:ext cx="828036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E8D6-8367-49F0-9D47-F0EA7B13A6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0:47:00Z</dcterms:created>
  <dc:creator>Zerrin Saba</dc:creator>
  <dc:description/>
  <dc:language>en-US</dc:language>
  <cp:lastModifiedBy>avarli</cp:lastModifiedBy>
  <dcterms:modified xsi:type="dcterms:W3CDTF">2007-05-22T12:08:34Z</dcterms:modified>
  <cp:revision>3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